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DFC88-0455-45A8-893C-BB986B642F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D696F-D982-48AD-B7D2-B504C9EC949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F8541-41E7-443F-B6B8-254B612CFCC3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1F18A-4582-46C7-B173-1087F4865F7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BEFFE-F314-4A75-A156-CD5BE9820252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6280E-A765-4C0B-BEE8-DCAC7AB8EED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75AC4-4C14-4AB5-BC17-A60F66968B6F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E4CA3-41A5-4590-B0F9-8C72BF35E062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342480-87B5-4914-8428-4DCD8E428271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D381D-12DC-479E-81BA-AB72A1132454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4562C-E003-4564-AD6A-E63D2F79B960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85FF91-227E-487F-A65B-FEE1D38D7E62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88A23-BA93-49F2-BF83-55A5D43D7E4D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7B0BCC-65EF-440C-9130-0471E446B3BE}" type="slidenum"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210-C538-48B4-980E-FAD47899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64B-40B8-41B8-B5D6-1AE6661D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5FF16-3C41-46BA-9D33-CE1B1280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FDB795-F25D-4F1A-A969-815A2701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FE6C2-7B5F-4AF3-A69B-8A663A1F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0A996-CCEF-44D3-B98F-F260AF2A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4DF84-2DD5-438B-BC6B-2D5DFC35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790AD-26F3-450D-B925-0D2DAB5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CA50D-9902-4B30-A6A0-616CA4FE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6FC76-F9AC-4C16-B327-F7DBE998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485E0-8A5D-4CBC-8D04-F0B85EDB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9083D-1FCD-4E54-83C9-287B3150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577-484A-4F37-805D-EDEB01E8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83ADB-57DF-4C19-844E-F6126FF0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FB902-16C8-4CA8-B586-B6127631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28804-255E-4457-99D0-1EF0CF3B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68E0D-DF31-401F-8B82-3E362432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B170C-E4D3-4C28-B05E-A4B04309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6770C-E3D2-4DC0-9B59-83DE499D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BD1B3-FDB2-46AD-B46A-C3984DF1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071F6-B032-4E18-AA1F-E3E07BC9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1981C-4C09-4E1A-AC66-662DE2A3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3CC7D-AE47-4997-8E37-8870DB98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A5F-2649-474B-BDDB-97B62BF6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CCA10-3FCF-4714-8D3E-737E5F81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94A2A-9453-4547-823E-82F85DFD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B7B1F-FD37-4ED0-87F5-1C0286A5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1F589-4E4E-42C2-B70C-5B9A4814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552F1-AA40-4031-B5F8-80CBB12A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84DAB-B867-476C-9322-79E4ED99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40E8D-26A8-45FA-8BC0-44D4343E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633F6-96B0-40DF-B2E2-29564A77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86AF7-DEF5-4FD7-B368-EE862D48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95945-3A2B-4A16-9C20-041F4497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D6D5-2946-4303-B120-BC5BA528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E062E-A945-447E-A89F-76454223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940E2-AE7C-447C-86E4-F6C50716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D5A02-7827-450B-9C63-66E690EE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397A7-3F2C-4304-92AD-D18C67FE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5C94D-D9EF-466E-B4C6-31EA8273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57F15-415B-486A-925F-8B5840BF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C7D0B-7349-4FAB-BD15-94BBF4F2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F010F9-3D5B-4F7A-96FB-FE012210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97D2D-294B-4AD9-8184-25640D90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823A9B-94AC-4E46-B06D-B84CA81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D696-2F08-429A-90D0-3AD78E96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06DEF-34E8-46B5-9D4A-650039B3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A42E3-5C8D-4068-A66B-32339BDB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E011A-B932-48ED-A346-AC815593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CE465-26CF-4375-BD6A-808167E7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4607F-2B41-4487-A998-A303E8FF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E0EF1-3C04-4343-B65B-2B478122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B94D1-658A-40CE-B87B-78719AB3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4B747-F21F-4ED4-A2F6-BF8632C7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9C0586-675B-4457-A1FD-34E4EC0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9B2E0-E9B4-4B7D-8B22-83FE3612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9BCD-03B7-4478-B74E-63FEB153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39AA52-709D-4FF3-A129-BDFE68D4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D084BA-814A-4DAA-93F5-5B4ABA5C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55FE0-29FF-418F-AABC-31B89B20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A6824-F3AC-4C2F-B7F1-1A9F4035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E4861-A153-489A-BA7D-B055690C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3B1EA-14F5-46F0-B884-698229E6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B5E2F8-8C4F-414A-8F2F-DBBDD7AF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FAD3A7-3594-4A44-A3CE-74877EE2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91115-6B25-4A6B-8114-A4288186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C2D66-360E-4392-B1BE-1B6DA55C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C093-2798-42AA-93F3-66AF0A35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9CA7D-5308-451B-8910-F69394A5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E62C5-A82E-45F2-B57D-7C5A4FD8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2EA29-84DA-40DF-8139-682B0D38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A6462-B4C0-42C9-900F-AA2E9698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21DB9-7572-4894-9815-54190E65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AED70-53D6-4E53-9435-CE77C423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21EEA-76A2-4806-A48B-50DEC8E4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E510C-03AC-4D14-BFBD-F93A6331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74F9B5-DEB2-4241-8D33-3A2A2E94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EA4A9-97A4-4A62-9EF2-293173B9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2636-72D3-4EA3-A5DF-9559C6C0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9D9B3-9D96-43AA-858F-7E7E09D4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926848-59A9-4D4B-86D6-B2734ACA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788E3B-E4B0-4469-9DDA-6D4C3B1D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D8F95-4561-41F6-AA89-060ED6F1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121509-606F-45EB-A07C-C3A51C0A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500005-2361-412F-8B5D-327A1F9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40B825-101F-470D-B557-3886FF63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F9EBF5-999F-43A9-B071-24FDB7B0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4BA72-A812-40CA-812F-44A4DD84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90A43-8968-4065-B03E-C1B7324E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FF26-B3DC-43C6-9281-6C83569E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9C5B2A-D321-44C9-ABA8-48887843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40910-BC75-4109-B6DA-597AC8C7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D7B03-380F-43A1-A178-E9B8DD95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09057-123F-4885-98C6-E675E57D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77324-1283-4B94-BE23-A8798FFD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7E122-7F80-4A5A-AB02-CF509511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97E36-ED5D-4149-97FD-30D03B86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8B568-3943-4FD7-85E5-4C13ECBE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B6C7D-7B83-442C-AE56-12C53AE0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109DDD-47F5-4F8E-A262-8916C753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F1F9-A400-4258-8F88-216A730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0CBAC-83A6-4D8A-8A8A-CFA61291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1044BF-C7C6-44A6-95A0-14F622D0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84B6D-7983-4BE0-8C76-1DDC3839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49E865-77BC-46C7-AF19-C7AE4CF6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1C7C09-4521-4B4E-8E3E-18504D71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70CF5E-8442-4729-9BB0-F6B7E35C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89E16-A4E6-4104-BCD6-B4EF661A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6FCAF-2388-4D36-9F28-8349BB28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1FDB21-06B7-40A9-9138-389A9B75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030CF3-7962-4112-BC0C-87F3E1FE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FEE-1683-4B96-9790-A174E942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2EDB-49E0-4CCD-847A-980410DD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F3652-DD63-4A0D-9E7D-0CDF843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8B2C2-07A7-4C4A-9DD5-7391EECC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8B94E-096B-4071-AC3D-429DAA78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09CCC0-2787-4EAA-ACCB-A0299A0D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03EA63-31A0-45C0-9191-03254427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9322-4F45-466A-9EF0-537C8178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3591-286E-45D0-87EB-56D488B9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4F80-507C-487C-B843-CAE79906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79FA-6732-4FDF-99EF-5F3B25CC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CA58C-9A99-4219-B618-336844CF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6A8A-8401-41A3-A235-19628823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4651-53D5-4405-92F7-15D354FC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A327-9471-484E-A0F0-E0F3B4CE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CB95-DC1B-43D4-9A5B-97859285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EA5-5291-4FFA-BDA4-48F4394B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F5E1-0E94-4CC0-A82B-E4683B07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C0A0-2840-4E78-BDCE-2B09A93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1A7F6-BF0C-4B3B-A941-19340666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15352-6611-4E0B-9C80-851F8138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6990-DCBC-48E2-A2F4-E6E63FCF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1A5FC-27CE-4327-9FAB-5177C2A3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BD42-49B6-4E16-8E96-7981D233C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42D17-68EE-4803-B872-3EE34720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CB329-CE05-4B8F-8A83-AD54584D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59C14-4323-4330-ADC7-DBB13A9A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0E7-0447-417F-A6BA-861FC49F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7D0ED-274F-4865-A1BB-4080BC35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0D3F2-86EC-484E-BCAE-3475E1EB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1D2EC-4C80-41AC-8E9C-4B4B21C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62D9-642C-42E4-AC0A-4E805FAF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11DD-B8D4-4145-838D-821D0D9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E1626-1957-4BC6-952F-CEFECC3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46100-959A-441E-964E-3D9A5F2D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710D-A4CE-406B-88A4-C964EE10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E2BA-CA98-4292-ACDA-7E3C9EFF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A0C2D-3054-4E48-B751-76BFD9B3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5A2-273D-49D9-A2C2-92A4FE36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AD308-1D94-480B-9E78-E6940B66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9E0A5-E5F3-4D6A-84BA-AC0FC49C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8FC72-2B6F-42D7-96D6-4248A229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DB09E-CABC-4F7C-8E3A-A7406BA6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271FD-DB63-4954-878F-989BA70B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8DFE1-F11B-4372-8DC4-86DF6393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F05D8-B3B3-4438-BD25-20342B3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5F96D-4996-4638-95FE-33156CC4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3EA9-82AA-4527-BF1C-B2E8BF47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83B30-ECE6-4012-9FE0-1461C34D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FA96-76F3-4794-B352-225F79B1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89A58-A8AE-4CEC-A1EA-BD39F6C9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0A820-6853-47EE-8341-A29D238D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D1917-EA5B-403C-B5A4-D83CB0FF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45BE6-F965-4956-A2D2-2CEB2A42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2E7A-4D17-4606-8B37-09B9C5C4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77A54-C195-4C25-8007-D809C081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B7A1-9B9D-438A-855E-697EB082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D6188-2965-46B5-B554-577B5031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31422-FE7B-4E06-B671-5383769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BBC4A-ECEB-4BF0-A00C-CC1528F7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31F-04D8-424A-B7CB-67F48540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22E6-389B-4EC2-9156-CD5E666D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42392-5B3B-4B1D-BE82-F18E8CFA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467CE-EC10-4F91-B63A-D8FCBFB9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1D492-9C1D-4DE6-A9A9-C7D9956F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0F06A-802D-4DE8-AB36-6315067A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4CD49-4C69-4445-8342-6E19033C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E55C-7CAF-490A-815A-740301AF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9B77-49DE-40CD-8A38-908DDC23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0C020-C820-4D01-883C-08C6985B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DFCAC-7D44-4DC3-AC9A-FC144478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EC7-ED8F-47DF-97EC-2FB93CF3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85761-566E-4F2C-9691-B1A15407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97E2E-19B3-4E6F-AE6A-E422D7FF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331FD-4959-4E0A-B526-FCA29529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E2F4A-5A15-450A-AABE-F133533C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BDE72-316E-4A97-9AE1-C70D997B4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10958-736F-423F-ACDE-90A6F9E50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154E8-A8DA-4AEA-8FB5-3B28973E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456C9-F06A-4067-9346-EF7CAAE8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C6CB5-3FAE-496C-9430-1A625578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B403B-D9F8-4802-AD82-4BF0AB13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CAC-A1A0-4922-BB36-52D07570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CE710-55BB-44DA-9FB6-45308EF1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F256B-FB81-42C2-9044-8FC78103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9E675-4BBA-4D25-9A86-0E2864D0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CAF5A-ABBF-4C96-8A9A-280DA2B0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BC51C-1A33-4C8F-BABE-AD76496F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C2AA4-37E6-4AB2-8AFC-8A9E52A8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82B93-2207-4BD3-B172-86845161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8C59E-212A-4A61-9145-1DDF5784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BE6CB-40D3-423F-9FD0-246EAA8F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BC997-398A-46B5-AA30-46DD0344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B2B46-484E-41E6-ABEE-1492DC3A2CA7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B16AC-F855-445C-ABEA-FAB1823E562C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90970-02C5-4A87-9907-8CAE0ABFEAD7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7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8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E5C857-3ED4-460E-A705-2364AD27F3E0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CAEFC-0344-4B8D-8160-D1B9BE35F21F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7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8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236E5-18A8-482F-A85C-9642EEEE443E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9E035-B893-4F53-9F40-BC5BEF89FBE1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C9B15-05BA-4132-9F7A-CDDB2CB39267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83EFE5-0761-4236-9855-E31F721F2A58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18963-2F34-40F3-8516-F9C8203BC7DC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D5FFC-A1AE-4296-ADE6-621F2C3F9AFF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0E0286-ED01-4E09-8679-DD9561E4F8D1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B1939-0F64-41B0-B389-71D7C416A0E1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A48229-A170-4360-9A23-FF0F28935BA7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5399FC-C6D9-4767-8C8E-8E6053413F6E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DE94B-0FBA-4779-958A-AD9A895C997B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2516A-62AB-4831-A28C-CE92B809B42D}" type="slidenum">
              <a:rPr b="0" lang="en-GB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3f0"/>
            </a:gs>
            <a:gs pos="100000">
              <a:srgbClr val="f6b6a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27236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осударственная поддержка и рентабельность сельского хозяйства в условиях</a:t>
            </a:r>
            <a:r>
              <a:rPr b="1" lang="en-US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рансформации сельского хозяйства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692000" y="501336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С.В. Киселев, кафедра агроэкономики, экономический факультет МГУ им. М.В. Ломоносов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63272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нтабельность и финансирование госпрограммы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4" name="Content Placeholder 2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8388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ны как важнейший фактор рентабельности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6" name="Content Placeholder 3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77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ны как важнейший фактор рентабельности (ножницы цен)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8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425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805968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Государственная поддержка – кто финансирует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10" name="Content Placeholder 3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81313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805968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ывод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23640" y="98100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Необходимо искать баланс интересов государства и производителей (продовольственная безопасность, доходы бюджета, др. и возможность развивать бизнес)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Century Gothic"/>
              </a:rPr>
              <a:t>Необходимо четко ранжировать краткосрочные, среднесрочные и долгосрочные цели и интересы</a:t>
            </a: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632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и структурной трансформации аграрной экономики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179280" y="1483920"/>
            <a:ext cx="8856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УСТОЙЧИВОЙ экономики (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silient)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на пути структурной трансформации с учетом экологических и социальных вопросов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ЦИФРОВОЙ аграрной экономики на ВСЕХ уровнях 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ход преимущественно к стимулированию ЭФФЕКТИВНОСТИ производства (от стимулирования наращивания производства)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ированию производительности труда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619280" y="-7920"/>
            <a:ext cx="7632720" cy="10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ажность производительности труда ва современных условиях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95280" y="112536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 – </a:t>
            </a: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H-</a:t>
            </a: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декс по сельскому хозяйству (соотношения количества размещённых в базе hh.ru резюме к количеству открытых вакансий)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сельского хозяйства 3,2 резюме на вакансию при норме в 4-8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дианная зарплата 101 тысяча в 2024 (рост на 16 тыс. по сравнению с 2023)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соответствие роста производительности труда потребностям отрасли (нехватка трудовых ресурсов, нехватка квалифицированных кадров, др.)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8064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нденции государственной поддержки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0" name="Объект 2" descr=""/>
          <p:cNvPicPr/>
          <p:nvPr/>
        </p:nvPicPr>
        <p:blipFill>
          <a:blip r:embed="rId1"/>
          <a:stretch/>
        </p:blipFill>
        <p:spPr>
          <a:xfrm>
            <a:off x="285840" y="1195560"/>
            <a:ext cx="8858160" cy="540036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4" descr=""/>
          <p:cNvPicPr/>
          <p:nvPr/>
        </p:nvPicPr>
        <p:blipFill>
          <a:blip r:embed="rId2"/>
          <a:stretch/>
        </p:blipFill>
        <p:spPr>
          <a:xfrm>
            <a:off x="520560" y="1197000"/>
            <a:ext cx="83901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8064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Тенденции государственной поддержки (2)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684360" y="1700280"/>
          <a:ext cx="8280360" cy="4560840"/>
        </p:xfrm>
        <a:graphic>
          <a:graphicData uri="http://schemas.openxmlformats.org/drawingml/2006/table">
            <a:tbl>
              <a:tblPr/>
              <a:tblGrid>
                <a:gridCol w="1382400"/>
                <a:gridCol w="1149480"/>
                <a:gridCol w="1149480"/>
                <a:gridCol w="1150920"/>
                <a:gridCol w="1149120"/>
                <a:gridCol w="1149480"/>
                <a:gridCol w="1149480"/>
              </a:tblGrid>
              <a:tr h="4255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 с-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3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9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6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2408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кр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рбх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зем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Пнау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Псхмпи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7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4.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680" rIns="4680" tIns="46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4680" marR="4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8064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Что может вызвать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5" name="Объект 2" descr=""/>
          <p:cNvPicPr/>
          <p:nvPr/>
        </p:nvPicPr>
        <p:blipFill>
          <a:blip r:embed="rId1"/>
          <a:stretch/>
        </p:blipFill>
        <p:spPr>
          <a:xfrm>
            <a:off x="146160" y="1109520"/>
            <a:ext cx="8997840" cy="54864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3" descr=""/>
          <p:cNvPicPr/>
          <p:nvPr/>
        </p:nvPicPr>
        <p:blipFill>
          <a:blip r:embed="rId2"/>
          <a:stretch/>
        </p:blipFill>
        <p:spPr>
          <a:xfrm>
            <a:off x="1293840" y="3213000"/>
            <a:ext cx="68421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63272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Можно прогнозировать дальнейшее сокращение инвестиций в 2025 г. и последующие годы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8" name="Content Placeholder 4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8064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Вероятные тенденции в производитель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5" descr=""/>
          <p:cNvPicPr/>
          <p:nvPr/>
        </p:nvPicPr>
        <p:blipFill>
          <a:blip r:embed="rId1"/>
          <a:stretch/>
        </p:blipFill>
        <p:spPr>
          <a:xfrm>
            <a:off x="1042920" y="1425600"/>
            <a:ext cx="77724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63272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Рентабельность - тенденции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2" name="Content Placeholder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8136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9T10:00:58Z</dcterms:created>
  <dc:creator>KSV</dc:creator>
  <dc:description/>
  <cp:keywords/>
  <dc:language>en-US</dc:language>
  <cp:lastModifiedBy>Kiselev Sergey Viktorovich</cp:lastModifiedBy>
  <dcterms:modified xsi:type="dcterms:W3CDTF">2024-10-20T17:05:08Z</dcterms:modified>
  <cp:revision>2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1033</vt:lpwstr>
  </property>
</Properties>
</file>